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gif" ContentType="image/gif"/>
  <Override PartName="/ppt/media/image11.wmf" ContentType="image/x-wmf"/>
  <Override PartName="/ppt/media/image1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03B-2398-427F-BC51-02281EF6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456-2113-4E0A-BB1B-E2412717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BE14-1416-402D-8BBE-D5A65C9F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9E97-C88A-4D5E-8EAE-17C6FC0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F05F6-47C7-41C9-A0CB-3AA78C7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87F0-65EF-41CC-9E83-2B4086C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3BA7-06CD-4AC8-920A-6F9E4A35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C6E33-9EEE-4923-BDF9-3CB48C2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33FF-24D0-4AD3-B0C5-A6F0029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A852A-7F2B-4FE3-99ED-18A6988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EEFB-DF0A-477B-8F37-62D1EDED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5B6E0-5812-4D0C-9251-754319FF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36C-A642-4032-ACA3-6A8044CA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8CA07-C89F-446F-BD96-657F20A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A82C-3B6E-4CB5-817E-3771A16B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3B7B9-0B35-421F-BBDF-2F3FA2D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E2978-F7E2-48DC-8F0B-43C2A16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86163-4BD3-478C-B7CA-7D6401F8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DF5A9-D8CD-4796-B1BB-0B244E5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F017E-0A46-4567-8455-C202B54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9015-B972-4470-A6D6-B95D8DB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65F01-B874-4B38-A38B-0B68907D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5A334-4FBF-4BDE-A67E-E50D04CD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AB1-4512-4FE4-8171-25639EA5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83B9B-BD08-42F0-BA0E-D490D91B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151B-B53B-43CE-96EA-702192A3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CAD9-2AF2-4245-9A54-B51BB832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04BE0-25F6-443D-AE8A-6868E90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480E-E935-4FFB-87F7-0FEB11C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4DAA-074F-490B-ACB5-D349C0EE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9BB6C-F83D-4B4F-983D-9804527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ED9F4-1BB2-4D7A-8458-DA00FC6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DC46E-DEE4-4F41-8F9C-F802024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631A8-8B85-40C1-BDC8-745A417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BDE4-56D1-49EB-AC8A-266D9548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75B3C-BA18-4898-8EF5-8962AE8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75914-0FE2-4AF7-9966-90565ADA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794ED-2239-46EB-96D5-DA18FE84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CD740-ECC7-4E4C-87DC-4820F73A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9A4C-6DE0-4CDD-9231-9E325020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FC26B-0829-456D-8E3F-5856D0A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056D9-C308-4AF0-A344-0304CC7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245E2-FA1B-4F36-BFFC-B0EE9BD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0DB74-BBC1-4EFC-8046-7652A65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EC39-FC5E-42C6-85A2-EF1BA6F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6BBD-9058-4169-A37C-D5E2F53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D90C-52F2-4676-9106-5461D1DD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78CCE-9964-4895-9338-67C3128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59DD4-0F02-442D-80E4-E8F26EF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0A5D1-BB8D-4D7B-880E-137150EF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64616-DCA1-4407-B998-354AEEC5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FA272-385E-4A10-AEA7-1F2BAC7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52D74-A332-4D15-A64C-348E369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69B3B-A2F3-4611-AA42-9DB8FBEA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70EFE-2725-4CA0-8038-7146E600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870A0-8996-4095-81C0-6BC0B40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9A9F-9E2C-458C-AECC-B67AE21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373B6-B8F7-412E-A4CC-B518998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47A87-8EDF-4117-A673-4F2FCD5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E335A-AECD-4012-B80F-D216308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A3705-C73C-4FC8-8AD3-EAF95BE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8EF9E-B2A0-4D4E-95B6-57809350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4E2EE-BFCA-48DB-B371-42D889B9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C7B86-5004-4383-B18C-1EF164A3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C8AC0-AC76-481A-9E4A-D375DAEA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A6EFC-00D7-4FBB-879E-3B44D4C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ED68E-CD5D-42B4-A822-D443D4CD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8AEB-A44E-46E7-A284-066B5EF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493D9-675A-45FC-8836-C8DAA30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A031C-9A52-4AF8-B89E-FF58BE0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8D49F-7DA7-4D81-90FF-156C35EE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47665-5F90-48B9-8C9C-C7530B9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5F091-B3AD-4BAF-9504-AFD431A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2A29F-29BA-4E13-A060-8B0E9EF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50B10-2C13-43E2-9F89-30DAB6B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0C320-1FB5-4EE6-9B82-C3056A60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91FF4-2A61-4BC4-89AA-5C789F41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32232-202D-4E9A-BEC6-3CFF41DC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535-5B80-4B3B-80E9-2B89853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3FB75-95BE-4AEC-8B3B-C4B8F4BC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EC93C-AEF9-480C-A67D-F217B3D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27041-CB26-4677-8752-78C2BD8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310EA-29CE-4FEA-BC8F-B6565A5B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55C31-7B6A-43E1-BDFF-613ABFC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56504-2A7E-41E7-9707-96472E7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92037-0A72-452B-A038-D100987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B54B7-F55B-4095-AAD6-DB07026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4FA4E-E478-4B73-8C1C-FB20A57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4F94F-4448-4E67-B9C1-95270DC8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D389-3768-4BFE-8EB4-5430304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0E10C-A6BE-4267-BEBA-2A01473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EDA3D-37E9-4889-8E81-C9C6EF40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58E33-2268-4D14-B7D4-96BD4283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8672B-63D4-467B-ADFF-C893CE35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81ECA-A728-42A6-B985-E9A24E4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16CF2-80B8-4510-98EE-FD14466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1D28A-C472-49A1-951E-FD5EB576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30B3C-D497-45F3-BCC7-5CCC5DE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A4645-A8EF-467D-B8FC-7AE1460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76873-6ECA-4A23-9029-F04CBFA2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A953-230C-45A0-9D7E-AEAFF9B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44861-9D7B-4985-977B-306C5C3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FC00E-A748-4F56-B577-DB6D3DC6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35348-B4F6-4E7F-8D2B-59B949F5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EC7-0542-4410-9294-6B17E6A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6692-6AC9-46C0-AD30-667ABB3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5921-AFAB-4812-A6B4-A01C8E6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5C0-8E0C-4212-AF30-237DD27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0DB-E802-4AA3-A706-6D174DE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169-7687-46CB-8FC8-567E1B59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5EAA-2FFF-41DB-864A-39B782E0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3393-93F4-4752-A893-CB40C30C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9AE2-68CF-47AA-A9D8-0826E0D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A202-5E85-4862-B61B-8254D84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3B72-A3F4-4248-9456-EA1C975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F78-228B-44C2-AB5A-EC95DC17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71DE-BFD9-4E5B-9CDD-F6F2D6E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684F-951A-4E6B-B52C-AA660C9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CB0C-BBDA-4182-A0F3-1A34951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6DE2-6CA6-442C-B124-CB4C787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28CD-9E8D-4DF0-85D7-421B1E3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FD0A-EE41-4CFD-97BE-C2556340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3373-C08C-48FD-BE0F-F276D991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8110-595B-4AE8-B657-1C04CBAE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6A97-F47F-4B77-8843-9FCCE1D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34FB-66AB-40D4-9D44-76E2921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E00-1D57-4979-BD6F-EF929EEE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240A-FBAD-4095-8D35-EE0EE5E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F74C1-54D5-4763-8805-4729F30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4B1B-4BDA-4BBA-BDE1-EB2ADD94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E002-4AF0-4572-B1B3-D9AA2CC1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B7B5-56F2-43B8-A2AB-7586DE01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29A1-7135-42E5-978C-FA67297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D238-FB8E-41A7-90D1-B9B0234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4BD0-2BEC-4A2B-ADD9-AB16D8C3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AEE0-71DA-4587-91CF-1595241E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B86A-FBF1-4B61-B7D3-5BDF1B26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FBD-5B13-45E2-9364-F73BF0B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7200-32F6-4BFA-9486-E78A617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5558-B076-4AB7-B178-71CE12A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C8D09-30D7-4111-90FA-7EFD3B9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16E9-C76F-48E5-ACFA-05EEAA9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88B4-6E6F-4FBF-AE9B-7902513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3B65-4893-488E-92EC-C51868F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9A7C-8706-475C-B03B-6E516AB2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3063-979C-4CB4-9FDA-6C5CC79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8D39-A138-487D-8329-CB6E52C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9FF7-2767-4366-93A4-9492B588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BD8-AF53-4A13-9A64-25FF2C9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22ED-C7AD-438B-B40D-216DA65E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A594-33CA-4178-8057-11DF891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598B-3EBA-4ED0-B609-09EB388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AF6C0-A94A-4C1B-B25B-AA40979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485EB-33EF-4BB0-9A45-E4A29BD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7F44-3471-4FEE-B7E4-A265047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B896-66DE-4B2D-BD23-1B82F550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84F6-8C5A-49DD-9438-BC3442A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DC209-0CCD-4D40-8A31-E097A7C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D925-527F-4F4E-870C-C230045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EC0-A7BA-432B-8D97-B9E8F39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59F8-1E78-4678-96D4-B968564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9331-3DD2-4020-AC53-B7E9377C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D5265-C305-4D1A-B207-A9609B57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61A8-BE44-444D-B650-078B108E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6761-B89D-424A-8394-935A7B2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D7D0-BC35-40DB-941A-900B33BE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27F2-26AE-4BD9-BAC3-2126F975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DAAC-18D5-4BE7-9EB5-ED07B42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2150-A0CC-4F10-BB68-1A4D35DE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7498-237D-4A05-BF07-D379A00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509-39D7-456E-8E2B-BE1321E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DAA5-B689-4838-B0C7-D9A3897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8879-64D8-4A20-8B66-3794A97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4A0E-5FC3-4ABB-8E93-F6267700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E151-19CE-4E07-9BB1-3D2D2F20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B0DA-F9A7-42A4-8FC0-CF514E64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081AD-194A-4EB3-A8B4-5DEF2587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D8AF3-3560-4837-817D-586BDE0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679A-3891-4EFF-A00F-E306CE6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B0142-3469-4756-B925-FA274F3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B03C-90F2-4FD0-A511-79A98B99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410-7906-4AE7-AC84-1492D028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F074-AC66-49E2-B210-6E29494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43028-6C10-43EF-B1EB-FF157AE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1AD8-29A8-4767-A532-4EDDE0E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2B4F-D71C-4503-8523-DAAA5DE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DE3B8-C2C4-4ECC-BF0A-4D02A40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C525-ADE1-4F4C-B370-697B1166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2EE2D-A3FA-4791-9A69-D9378324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5E33C-1217-488D-B4D2-D000B2CE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F8B9-F558-4460-807A-CA99C1E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A5B69-F1E1-4154-9FA8-37CF81C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F044-FB30-4199-A8BD-DDDE942EC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703-619F-48D1-9255-8D98659C4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A464-13E8-4877-9509-9D803B25E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87F-5321-45A9-BB70-CCBBC22E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2CF-5039-4CF3-947F-8B9563A6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DE5F-FEC4-4848-802F-F9362911C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2F51-21B7-4AED-9075-16E3DCEC2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9FA-9493-458A-9FBE-C89ED3B6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0DA5-961D-4E2F-A11C-2CDB02B55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C8F-D9D8-4C79-AE6A-425E8ABA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A2C-6F80-485D-B3C4-5400EBC50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DD9-96BB-49E3-91A0-586E8EDD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ADB-D76F-4139-BA6F-766F17AFE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A5F-73B6-4B5B-9850-3CE7BCE4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FC2-55F3-432F-A73F-A4B45DDCA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94B-062F-400D-BEFB-C0BC5E47E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m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um putem trai confortabil      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1" name="Picture 7" descr="j0297551"/>
          <p:cNvPicPr/>
          <p:nvPr/>
        </p:nvPicPr>
        <p:blipFill>
          <a:blip r:embed="rId1"/>
          <a:stretch/>
        </p:blipFill>
        <p:spPr>
          <a:xfrm>
            <a:off x="5181480" y="2133720"/>
            <a:ext cx="2170080" cy="2871720"/>
          </a:xfrm>
          <a:prstGeom prst="rect">
            <a:avLst/>
          </a:prstGeom>
          <a:ln w="0">
            <a:noFill/>
          </a:ln>
        </p:spPr>
      </p:pic>
      <p:pic>
        <p:nvPicPr>
          <p:cNvPr id="1372" name="Bohemian_Rhapsody.mid" descr=""/>
          <p:cNvPicPr/>
          <p:nvPr/>
        </p:nvPicPr>
        <p:blipFill>
          <a:blip r:embed="rId2"/>
          <a:stretch/>
        </p:blipFill>
        <p:spPr>
          <a:xfrm>
            <a:off x="655308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9"/>
          <p:cNvSpPr/>
          <p:nvPr/>
        </p:nvSpPr>
        <p:spPr>
          <a:xfrm>
            <a:off x="4875840" y="60958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rock.mididb.com/quee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4" name="Object 10"/>
          <p:cNvGraphicFramePr/>
          <p:nvPr/>
        </p:nvGraphicFramePr>
        <p:xfrm>
          <a:off x="228600" y="4724280"/>
          <a:ext cx="914400" cy="7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724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921" fill="hold"/>
                                        <p:tgtEl>
                                          <p:spTgt spid="1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9921" fill="hold"/>
                                        <p:tgtEl>
                                          <p:spTgt spid="1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i cunosti nevoile 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care trebuie satisfacute de orice persoana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legate de viata noastra in societate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8" name="Picture 8" descr="j0199283"/>
          <p:cNvPicPr/>
          <p:nvPr/>
        </p:nvPicPr>
        <p:blipFill>
          <a:blip r:embed="rId1"/>
          <a:stretch/>
        </p:blipFill>
        <p:spPr>
          <a:xfrm>
            <a:off x="5181480" y="1692360"/>
            <a:ext cx="2173320" cy="168732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9" descr="j0183328"/>
          <p:cNvPicPr/>
          <p:nvPr/>
        </p:nvPicPr>
        <p:blipFill>
          <a:blip r:embed="rId2"/>
          <a:stretch/>
        </p:blipFill>
        <p:spPr>
          <a:xfrm>
            <a:off x="5181480" y="3463920"/>
            <a:ext cx="215928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 determina nevoile noast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3718080"/>
            <a:ext cx="76960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em cu toti aceleasi nevo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voastre ? Care sunt nevoile oamenilor in general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2" name="Picture 8" descr="j0284916"/>
          <p:cNvPicPr/>
          <p:nvPr/>
        </p:nvPicPr>
        <p:blipFill>
          <a:blip r:embed="rId1"/>
          <a:stretch/>
        </p:blipFill>
        <p:spPr>
          <a:xfrm>
            <a:off x="1028880" y="1828800"/>
            <a:ext cx="3090600" cy="176688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9" descr="j0233018"/>
          <p:cNvPicPr/>
          <p:nvPr/>
        </p:nvPicPr>
        <p:blipFill>
          <a:blip r:embed="rId2"/>
          <a:stretch/>
        </p:blipFill>
        <p:spPr>
          <a:xfrm>
            <a:off x="5486400" y="1828800"/>
            <a:ext cx="20145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 BIOLOG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5" name="Picture 9" descr="MPj04140480000[1]"/>
          <p:cNvPicPr/>
          <p:nvPr/>
        </p:nvPicPr>
        <p:blipFill>
          <a:blip r:embed="rId1"/>
          <a:stretch/>
        </p:blipFill>
        <p:spPr>
          <a:xfrm>
            <a:off x="1695600" y="18288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10" descr="MCFD01939_0000[1]"/>
          <p:cNvPicPr/>
          <p:nvPr/>
        </p:nvPicPr>
        <p:blipFill>
          <a:blip r:embed="rId2"/>
          <a:stretch/>
        </p:blipFill>
        <p:spPr>
          <a:xfrm>
            <a:off x="1401840" y="3733920"/>
            <a:ext cx="2340000" cy="175248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11" descr="MCj04316270000[1]"/>
          <p:cNvPicPr/>
          <p:nvPr/>
        </p:nvPicPr>
        <p:blipFill>
          <a:blip r:embed="rId3"/>
          <a:stretch/>
        </p:blipFill>
        <p:spPr>
          <a:xfrm>
            <a:off x="449568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9" name="Picture 7" descr="MCj00977690000[1]"/>
          <p:cNvPicPr/>
          <p:nvPr/>
        </p:nvPicPr>
        <p:blipFill>
          <a:blip r:embed="rId1"/>
          <a:stretch/>
        </p:blipFill>
        <p:spPr>
          <a:xfrm>
            <a:off x="1735200" y="1828800"/>
            <a:ext cx="1673280" cy="175248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8" descr="MCED00002_0000[1]"/>
          <p:cNvPicPr/>
          <p:nvPr/>
        </p:nvPicPr>
        <p:blipFill>
          <a:blip r:embed="rId2"/>
          <a:stretch/>
        </p:blipFill>
        <p:spPr>
          <a:xfrm>
            <a:off x="1805040" y="4106880"/>
            <a:ext cx="1531800" cy="10065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11" descr="j0300520"/>
          <p:cNvPicPr/>
          <p:nvPr/>
        </p:nvPicPr>
        <p:blipFill>
          <a:blip r:embed="rId3"/>
          <a:stretch/>
        </p:blipFill>
        <p:spPr>
          <a:xfrm>
            <a:off x="4495680" y="2209680"/>
            <a:ext cx="278136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ramida nevoi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3" name="Picture 6" descr="untitled"/>
          <p:cNvPicPr/>
          <p:nvPr/>
        </p:nvPicPr>
        <p:blipFill>
          <a:blip r:embed="rId1"/>
          <a:stretch/>
        </p:blipFill>
        <p:spPr>
          <a:xfrm>
            <a:off x="2895480" y="1143000"/>
            <a:ext cx="52578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si RESURS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voile sunt strict legate de resu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rsele reprezinta toate elementele la care omul face apel pentru a-si satisface nevoi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6" name="Picture 9" descr="j0250248"/>
          <p:cNvPicPr/>
          <p:nvPr/>
        </p:nvPicPr>
        <p:blipFill>
          <a:blip r:embed="rId1"/>
          <a:stretch/>
        </p:blipFill>
        <p:spPr>
          <a:xfrm>
            <a:off x="4724280" y="1828800"/>
            <a:ext cx="3557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9T06:49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